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436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33482-78B7-439D-B41F-66E2BD36BF9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A2AE5-642F-46A1-92ED-966EF1A3D28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45F7D-A355-427B-942C-2A22830024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5E051-0A02-407E-AAA7-3EFA81AD49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55A38-A7A2-43C5-AC74-80E744B7040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7958A-7A97-4B35-98A3-57F4D1E507B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E69B1-CF33-4F37-A4D0-24D7C84193E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405D6-A259-4D85-AECD-11F4779C97D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4EE24-C76B-47DD-B8E7-58053F7D460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A08D0-C317-4D57-85D5-FBAF1B4D4D8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5292B-2868-4BD9-B418-1E6A2C4BCFA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EB82-4B00-424F-955B-0845DD7200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532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301B-03C4-49B8-A2CA-81A56A59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65FB9-82B8-4395-A3C2-08E78B17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16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984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16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984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2D1B-CA8D-4E76-B70B-E918777954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89DC-769B-4E90-84B2-63C3A418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2B9A-526E-44CF-BD94-CBEDA413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A2AC-73FB-4B89-B745-6654E515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F970E-167F-4698-8167-09F74030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1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48DD-8ECA-485E-BF30-A088F7A4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620D-6BA3-47FC-A4FC-EA499704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63EDB-6F30-43CB-B6E9-8BC51E37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E4CC6-18A2-46C9-AF9B-F9C30729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16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16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2366D1-8FC2-4D16-B790-A48EFD7D29B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REPRODUCCIÓN ALTERNANTE EN UN MU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660840" y="4932360"/>
            <a:ext cx="1127160" cy="107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5811840" y="1944720"/>
            <a:ext cx="2935440" cy="377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5616720" y="1440000"/>
            <a:ext cx="755640" cy="140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395280" y="1908000"/>
            <a:ext cx="3216240" cy="388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4572000" y="1584360"/>
            <a:ext cx="720720" cy="126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6"/>
          <a:stretch/>
        </p:blipFill>
        <p:spPr>
          <a:xfrm>
            <a:off x="3446640" y="1800360"/>
            <a:ext cx="693720" cy="10317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7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984240" y="90360"/>
            <a:ext cx="76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lternante en un mu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719280" y="571968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metof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012000" y="7650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imagen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l proceso paso a pa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 flipH="1">
            <a:off x="2536920" y="540072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6"/>
          <p:cNvSpPr/>
          <p:nvPr/>
        </p:nvSpPr>
        <p:spPr>
          <a:xfrm flipH="1" rot="21180000">
            <a:off x="4876920" y="5291280"/>
            <a:ext cx="882360" cy="317520"/>
          </a:xfrm>
          <a:prstGeom prst="rightArrow">
            <a:avLst>
              <a:gd name="adj1" fmla="val 50000"/>
              <a:gd name="adj2" fmla="val 69473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 flipH="1" rot="8220000">
            <a:off x="3147840" y="2695680"/>
            <a:ext cx="508320" cy="317520"/>
          </a:xfrm>
          <a:prstGeom prst="rightArrow">
            <a:avLst>
              <a:gd name="adj1" fmla="val 50000"/>
              <a:gd name="adj2" fmla="val 40023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 flipH="1" rot="10740000">
            <a:off x="4114080" y="2125800"/>
            <a:ext cx="507960" cy="317160"/>
          </a:xfrm>
          <a:prstGeom prst="rightArrow">
            <a:avLst>
              <a:gd name="adj1" fmla="val 50000"/>
              <a:gd name="adj2" fmla="val 40040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9"/>
          <p:cNvSpPr/>
          <p:nvPr/>
        </p:nvSpPr>
        <p:spPr>
          <a:xfrm flipH="1" rot="10740000">
            <a:off x="5193720" y="2125800"/>
            <a:ext cx="507960" cy="317160"/>
          </a:xfrm>
          <a:prstGeom prst="rightArrow">
            <a:avLst>
              <a:gd name="adj1" fmla="val 50000"/>
              <a:gd name="adj2" fmla="val 40040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 flipH="1" rot="12000000">
            <a:off x="6389640" y="245592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3240000" y="3919680"/>
            <a:ext cx="12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meto femen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reeform 22"/>
          <p:cNvSpPr/>
          <p:nvPr/>
        </p:nvSpPr>
        <p:spPr>
          <a:xfrm>
            <a:off x="3111480" y="3678120"/>
            <a:ext cx="314280" cy="287280"/>
          </a:xfrm>
          <a:custGeom>
            <a:avLst/>
            <a:gdLst>
              <a:gd name="textAreaLeft" fmla="*/ 0 w 314280"/>
              <a:gd name="textAreaRight" fmla="*/ 314640 w 314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874" h="799">
                <a:moveTo>
                  <a:pt x="873" y="79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2232000" y="1471680"/>
            <a:ext cx="12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meto Mascul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24"/>
          <p:cNvSpPr/>
          <p:nvPr/>
        </p:nvSpPr>
        <p:spPr>
          <a:xfrm>
            <a:off x="2583000" y="1979640"/>
            <a:ext cx="123840" cy="406440"/>
          </a:xfrm>
          <a:custGeom>
            <a:avLst/>
            <a:gdLst>
              <a:gd name="textAreaLeft" fmla="*/ 0 w 123840"/>
              <a:gd name="textAreaRight" fmla="*/ 124200 w 123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45" h="1130">
                <a:moveTo>
                  <a:pt x="344" y="0"/>
                </a:moveTo>
                <a:lnTo>
                  <a:pt x="0" y="11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5435640" y="270828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porofito jov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381800" y="180180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porof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7020000" y="499896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po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reeform 28"/>
          <p:cNvSpPr/>
          <p:nvPr/>
        </p:nvSpPr>
        <p:spPr>
          <a:xfrm>
            <a:off x="6889680" y="4740120"/>
            <a:ext cx="496800" cy="306720"/>
          </a:xfrm>
          <a:custGeom>
            <a:avLst/>
            <a:gdLst>
              <a:gd name="textAreaLeft" fmla="*/ 0 w 496800"/>
              <a:gd name="textAreaRight" fmla="*/ 497160 w 4968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381" h="853">
                <a:moveTo>
                  <a:pt x="1380" y="85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Freeform 29"/>
          <p:cNvSpPr/>
          <p:nvPr/>
        </p:nvSpPr>
        <p:spPr>
          <a:xfrm>
            <a:off x="6807240" y="4484520"/>
            <a:ext cx="579240" cy="562320"/>
          </a:xfrm>
          <a:custGeom>
            <a:avLst/>
            <a:gdLst>
              <a:gd name="textAreaLeft" fmla="*/ 0 w 579240"/>
              <a:gd name="textAreaRight" fmla="*/ 579600 w 5792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1610" h="1563">
                <a:moveTo>
                  <a:pt x="1609" y="156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reeform 30"/>
          <p:cNvSpPr/>
          <p:nvPr/>
        </p:nvSpPr>
        <p:spPr>
          <a:xfrm>
            <a:off x="2700360" y="1979640"/>
            <a:ext cx="106200" cy="636480"/>
          </a:xfrm>
          <a:custGeom>
            <a:avLst/>
            <a:gdLst>
              <a:gd name="textAreaLeft" fmla="*/ 0 w 106200"/>
              <a:gd name="textAreaRight" fmla="*/ 106560 w 10620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296" h="1769">
                <a:moveTo>
                  <a:pt x="0" y="0"/>
                </a:moveTo>
                <a:lnTo>
                  <a:pt x="295" y="1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4680000" y="575928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metofito jov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3959280" y="301932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go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33"/>
          <p:cNvSpPr/>
          <p:nvPr/>
        </p:nvSpPr>
        <p:spPr>
          <a:xfrm>
            <a:off x="3809880" y="2390760"/>
            <a:ext cx="292320" cy="658800"/>
          </a:xfrm>
          <a:custGeom>
            <a:avLst/>
            <a:gdLst>
              <a:gd name="textAreaLeft" fmla="*/ 0 w 292320"/>
              <a:gd name="textAreaRight" fmla="*/ 292680 w 29232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813" h="1831">
                <a:moveTo>
                  <a:pt x="812" y="183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34"/>
          <p:cNvSpPr/>
          <p:nvPr/>
        </p:nvSpPr>
        <p:spPr>
          <a:xfrm>
            <a:off x="7891560" y="2138400"/>
            <a:ext cx="311040" cy="284040"/>
          </a:xfrm>
          <a:custGeom>
            <a:avLst/>
            <a:gdLst>
              <a:gd name="textAreaLeft" fmla="*/ 0 w 311040"/>
              <a:gd name="textAreaRight" fmla="*/ 311400 w 3110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865" h="790">
                <a:moveTo>
                  <a:pt x="0" y="0"/>
                </a:moveTo>
                <a:lnTo>
                  <a:pt x="864" y="7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35 CuadroTexto"/>
          <p:cNvSpPr/>
          <p:nvPr/>
        </p:nvSpPr>
        <p:spPr>
          <a:xfrm>
            <a:off x="3924360" y="1484280"/>
            <a:ext cx="2872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36 CuadroTexto"/>
          <p:cNvSpPr/>
          <p:nvPr/>
        </p:nvSpPr>
        <p:spPr>
          <a:xfrm>
            <a:off x="6012000" y="4292640"/>
            <a:ext cx="2872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37 CuadroTexto"/>
          <p:cNvSpPr/>
          <p:nvPr/>
        </p:nvSpPr>
        <p:spPr>
          <a:xfrm>
            <a:off x="539640" y="5300640"/>
            <a:ext cx="2872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984240" y="90360"/>
            <a:ext cx="72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lternante en un mu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34920" y="1274760"/>
            <a:ext cx="7272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la parte responsable de la reproducción sexual e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u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gametos masculinos y femeninos, cuya unión dará lugar al esporofi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Gametof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3119400" y="2700360"/>
            <a:ext cx="2749680" cy="3471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2340000" y="575928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metof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800360" y="2879640"/>
            <a:ext cx="143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Órganos sexuales masculin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119640" y="379260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Órganos sexuales femenin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292720" y="2492280"/>
            <a:ext cx="273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metos masculinos. Necesitan agua para llegar a los órganos sexuales femenin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580000" y="485928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meto femen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14"/>
          <p:cNvSpPr/>
          <p:nvPr/>
        </p:nvSpPr>
        <p:spPr>
          <a:xfrm>
            <a:off x="2725560" y="3192480"/>
            <a:ext cx="466920" cy="73080"/>
          </a:xfrm>
          <a:custGeom>
            <a:avLst/>
            <a:gdLst>
              <a:gd name="textAreaLeft" fmla="*/ 0 w 466920"/>
              <a:gd name="textAreaRight" fmla="*/ 467280 w 4669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98" h="204">
                <a:moveTo>
                  <a:pt x="0" y="0"/>
                </a:moveTo>
                <a:lnTo>
                  <a:pt x="1297" y="2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15"/>
          <p:cNvSpPr/>
          <p:nvPr/>
        </p:nvSpPr>
        <p:spPr>
          <a:xfrm>
            <a:off x="5864400" y="4129200"/>
            <a:ext cx="276120" cy="19080"/>
          </a:xfrm>
          <a:custGeom>
            <a:avLst/>
            <a:gdLst>
              <a:gd name="textAreaLeft" fmla="*/ 0 w 276120"/>
              <a:gd name="textAreaRight" fmla="*/ 276480 w 2761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68" h="54">
                <a:moveTo>
                  <a:pt x="767" y="5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16"/>
          <p:cNvSpPr/>
          <p:nvPr/>
        </p:nvSpPr>
        <p:spPr>
          <a:xfrm>
            <a:off x="5435640" y="4257720"/>
            <a:ext cx="438120" cy="649080"/>
          </a:xfrm>
          <a:custGeom>
            <a:avLst/>
            <a:gdLst>
              <a:gd name="textAreaLeft" fmla="*/ 0 w 438120"/>
              <a:gd name="textAreaRight" fmla="*/ 438480 w 4381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1218" h="1804">
                <a:moveTo>
                  <a:pt x="1217" y="180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17"/>
          <p:cNvSpPr/>
          <p:nvPr/>
        </p:nvSpPr>
        <p:spPr>
          <a:xfrm>
            <a:off x="4915080" y="2816280"/>
            <a:ext cx="347400" cy="201600"/>
          </a:xfrm>
          <a:custGeom>
            <a:avLst/>
            <a:gdLst>
              <a:gd name="textAreaLeft" fmla="*/ 0 w 347400"/>
              <a:gd name="textAreaRight" fmla="*/ 347760 w 34740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66" h="561">
                <a:moveTo>
                  <a:pt x="965" y="0"/>
                </a:moveTo>
                <a:lnTo>
                  <a:pt x="0" y="5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18"/>
          <p:cNvSpPr/>
          <p:nvPr/>
        </p:nvSpPr>
        <p:spPr>
          <a:xfrm>
            <a:off x="5124600" y="2816280"/>
            <a:ext cx="137880" cy="420480"/>
          </a:xfrm>
          <a:custGeom>
            <a:avLst/>
            <a:gdLst>
              <a:gd name="textAreaLeft" fmla="*/ 0 w 137880"/>
              <a:gd name="textAreaRight" fmla="*/ 138240 w 1378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384" h="1169">
                <a:moveTo>
                  <a:pt x="383" y="0"/>
                </a:moveTo>
                <a:lnTo>
                  <a:pt x="0" y="11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4648320" y="6197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984240" y="90360"/>
            <a:ext cx="71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lternante en un mu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934920" y="1274760"/>
            <a:ext cx="727236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el resultado de la unión de dos gametos, uno masculino y otro femeni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desarrollo dará lugar al esporofi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Cigo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1260360" y="4079880"/>
            <a:ext cx="900360" cy="1139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3"/>
          <a:stretch/>
        </p:blipFill>
        <p:spPr>
          <a:xfrm>
            <a:off x="3419640" y="3959280"/>
            <a:ext cx="855360" cy="133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4"/>
          <a:stretch/>
        </p:blipFill>
        <p:spPr>
          <a:xfrm>
            <a:off x="5219640" y="3780000"/>
            <a:ext cx="1079640" cy="1520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"/>
          <p:cNvPicPr/>
          <p:nvPr/>
        </p:nvPicPr>
        <p:blipFill>
          <a:blip r:embed="rId5"/>
          <a:stretch/>
        </p:blipFill>
        <p:spPr>
          <a:xfrm>
            <a:off x="7346880" y="2371680"/>
            <a:ext cx="752400" cy="3747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2"/>
          <p:cNvSpPr/>
          <p:nvPr/>
        </p:nvSpPr>
        <p:spPr>
          <a:xfrm>
            <a:off x="1979640" y="341964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igo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3"/>
          <p:cNvSpPr/>
          <p:nvPr/>
        </p:nvSpPr>
        <p:spPr>
          <a:xfrm>
            <a:off x="1743120" y="3713040"/>
            <a:ext cx="411120" cy="1051200"/>
          </a:xfrm>
          <a:custGeom>
            <a:avLst/>
            <a:gdLst>
              <a:gd name="textAreaLeft" fmla="*/ 0 w 411120"/>
              <a:gd name="textAreaRight" fmla="*/ 411480 w 411120"/>
              <a:gd name="textAreaTop" fmla="*/ 0 h 1051200"/>
              <a:gd name="textAreaBottom" fmla="*/ 1051560 h 1051200"/>
            </a:gdLst>
            <a:ahLst/>
            <a:rect l="textAreaLeft" t="textAreaTop" r="textAreaRight" b="textAreaBottom"/>
            <a:pathLst>
              <a:path w="1143" h="2921">
                <a:moveTo>
                  <a:pt x="1142" y="0"/>
                </a:moveTo>
                <a:lnTo>
                  <a:pt x="0" y="29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 flipH="1" rot="10800000">
            <a:off x="2340000" y="454824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 flipH="1" rot="10800000">
            <a:off x="4429080" y="451008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16"/>
          <p:cNvSpPr/>
          <p:nvPr/>
        </p:nvSpPr>
        <p:spPr>
          <a:xfrm flipH="1" rot="10800000">
            <a:off x="6388200" y="451008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4140360" y="355932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porofito jov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5940360" y="229860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porofi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6813720" y="2633760"/>
            <a:ext cx="768240" cy="128520"/>
          </a:xfrm>
          <a:custGeom>
            <a:avLst/>
            <a:gdLst>
              <a:gd name="textAreaLeft" fmla="*/ 0 w 768240"/>
              <a:gd name="textAreaRight" fmla="*/ 768600 w 7682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135" h="358">
                <a:moveTo>
                  <a:pt x="0" y="0"/>
                </a:moveTo>
                <a:lnTo>
                  <a:pt x="2134" y="35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4648320" y="6197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984240" y="90360"/>
            <a:ext cx="76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lternante en un mu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34920" y="1274760"/>
            <a:ext cx="727236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la parte responsable de la reproducción asexual (por esporas) en el mu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ece siempre encima del gametofi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esporas que darán lugar a nuevos gametofi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sporof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2"/>
          <a:stretch/>
        </p:blipFill>
        <p:spPr>
          <a:xfrm>
            <a:off x="5580000" y="270036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419640" y="4859280"/>
            <a:ext cx="1287360" cy="1197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782640" y="3419640"/>
            <a:ext cx="1917720" cy="24177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1"/>
          <p:cNvSpPr/>
          <p:nvPr/>
        </p:nvSpPr>
        <p:spPr>
          <a:xfrm flipH="1">
            <a:off x="2465280" y="532908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2"/>
          <p:cNvSpPr/>
          <p:nvPr/>
        </p:nvSpPr>
        <p:spPr>
          <a:xfrm flipH="1">
            <a:off x="4859280" y="5262480"/>
            <a:ext cx="882720" cy="317520"/>
          </a:xfrm>
          <a:prstGeom prst="rightArrow">
            <a:avLst>
              <a:gd name="adj1" fmla="val 50000"/>
              <a:gd name="adj2" fmla="val 69501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724360" y="314172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porof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4"/>
          <p:cNvSpPr/>
          <p:nvPr/>
        </p:nvSpPr>
        <p:spPr>
          <a:xfrm flipV="1">
            <a:off x="6877080" y="3146400"/>
            <a:ext cx="896760" cy="138240"/>
          </a:xfrm>
          <a:custGeom>
            <a:avLst/>
            <a:gdLst>
              <a:gd name="textAreaLeft" fmla="*/ 0 w 896760"/>
              <a:gd name="textAreaRight" fmla="*/ 897120 w 896760"/>
              <a:gd name="textAreaTop" fmla="*/ 360 h 138240"/>
              <a:gd name="textAreaBottom" fmla="*/ 138960 h 138240"/>
            </a:gdLst>
            <a:ahLst/>
            <a:rect l="textAreaLeft" t="textAreaTop" r="textAreaRight" b="textAreaBottom"/>
            <a:pathLst>
              <a:path w="1425" h="358">
                <a:moveTo>
                  <a:pt x="0" y="0"/>
                </a:moveTo>
                <a:lnTo>
                  <a:pt x="1424" y="35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038560" y="387828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po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16"/>
          <p:cNvSpPr/>
          <p:nvPr/>
        </p:nvSpPr>
        <p:spPr>
          <a:xfrm>
            <a:off x="5549760" y="4214880"/>
            <a:ext cx="933480" cy="904680"/>
          </a:xfrm>
          <a:custGeom>
            <a:avLst/>
            <a:gdLst>
              <a:gd name="textAreaLeft" fmla="*/ 0 w 933480"/>
              <a:gd name="textAreaRight" fmla="*/ 933840 w 93348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594" h="2514">
                <a:moveTo>
                  <a:pt x="0" y="0"/>
                </a:moveTo>
                <a:lnTo>
                  <a:pt x="2593" y="25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7"/>
          <p:cNvSpPr/>
          <p:nvPr/>
        </p:nvSpPr>
        <p:spPr>
          <a:xfrm>
            <a:off x="5549760" y="4216320"/>
            <a:ext cx="750960" cy="1271520"/>
          </a:xfrm>
          <a:custGeom>
            <a:avLst/>
            <a:gdLst>
              <a:gd name="textAreaLeft" fmla="*/ 0 w 750960"/>
              <a:gd name="textAreaRight" fmla="*/ 751320 w 75096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2087" h="3533">
                <a:moveTo>
                  <a:pt x="0" y="0"/>
                </a:moveTo>
                <a:lnTo>
                  <a:pt x="2086" y="35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3419640" y="445932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metofito jov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1619280" y="341964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metofi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4648320" y="6197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09:16Z</dcterms:modified>
  <cp:revision>49</cp:revision>
  <dc:subject/>
  <dc:title>Diapositiva 1</dc:title>
</cp:coreProperties>
</file>